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2193588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25720" y="849240"/>
            <a:ext cx="4075200" cy="229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1AE1-9953-43A2-8D7A-10FF9E855EA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F972-9947-4440-B674-BB5FABC667B3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62440" y="8685360"/>
            <a:ext cx="295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2804-7603-4A71-A782-A667510098F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925720" y="849240"/>
            <a:ext cx="4075200" cy="22939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20B4-F9E0-42EE-8333-7912AD7364C4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62440" y="8685360"/>
            <a:ext cx="295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4243-0B9A-4C65-9592-4D37B522F1C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925720" y="849240"/>
            <a:ext cx="4075200" cy="22939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455-15F5-4E5A-B12F-7C10B7DF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7BD2-2AAE-4111-804A-70CA61E3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76B-73DB-4C99-8AC0-8A4CEAE6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9623-04F1-4C63-A10C-63B66599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D1E7-281C-4332-AABA-2E05AD8C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E98-D155-4D4B-A79B-99FD3349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883-AA70-4FDB-AC19-280429B4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78A-B313-4A78-B177-E21D290D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A8C-6CD1-4A66-9F51-CF39C02C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9CA-87E5-4651-B158-37795E48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3C5-34CA-4A07-84D5-DD8D257B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FCA2-18CC-45EC-A685-18100DB5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8CA8-3C4C-48F3-A0E4-CF87558490AB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ljeZBesedilom 1"/>
          <p:cNvSpPr/>
          <p:nvPr/>
        </p:nvSpPr>
        <p:spPr>
          <a:xfrm>
            <a:off x="1109520" y="1262160"/>
            <a:ext cx="892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VSEB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ZADRUGE V SLOVENIJI IN SV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KAPITAL IN FINANCIRANJE ZADR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UPRAVLJANJE ZA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Avtor: dr. Franci Av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30560" y="888480"/>
            <a:ext cx="941688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 Narrow"/>
              </a:rPr>
              <a:t>DELEŽI ČLANOV ZADRUGE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Slovenski računovodski standardi - </a:t>
            </a:r>
            <a:r>
              <a:rPr b="1" lang="sl-SI" sz="2400" spc="-1" strike="noStrike">
                <a:solidFill>
                  <a:srgbClr val="000000"/>
                </a:solidFill>
                <a:latin typeface="Arial Narrow"/>
              </a:rPr>
              <a:t>31.9.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 (SRS 2016)</a:t>
            </a:r>
            <a:br>
              <a:rPr sz="2400"/>
            </a:b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Arial Narrow"/>
              </a:rPr>
              <a:t>b) Deleži članov zadruge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 so del njenega kapitala, njihovo višino določijo člani v zadružnih pravilih skladno z Zakonom o zadrugah oziroma Uredbo 1435/2003/ES. Vpisani kapital SCE ne sme biti nižji od zneska, ki ga določajo pravila SCE, vendar ne nižji od 30.000 evrov. 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V zadrugi, ustanovljeni na podlagi Zakona o zadrugah, zadružna pravila, ki dopuščajo prenos deležev, lahko določijo najnižji znesek, pod katerega se kapital zadruge, ki ga sestavljajo članski deleži, ne sme zmanjšati zaradi izplačil članom oziroma njihovim pravnim naslednikom. 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V drugih zadrugah, ustanovljenih na podlagi Zakona o zadrugah, se lahko kapital spreminja, ne da bi bil določen spodnji znesek, pod katerega se ne sme znižati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77560" y="692280"/>
            <a:ext cx="9890280" cy="57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 Narrow"/>
              </a:rPr>
              <a:t>NERAZDELJIVI ZADRUŽNI KAPITAL</a:t>
            </a:r>
            <a:br>
              <a:rPr sz="28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Slovenski računovodski standardi - </a:t>
            </a:r>
            <a:r>
              <a:rPr b="1" lang="sl-SI" sz="2400" spc="-1" strike="noStrike">
                <a:solidFill>
                  <a:srgbClr val="000000"/>
                </a:solidFill>
                <a:latin typeface="Arial Narrow"/>
              </a:rPr>
              <a:t>31.9.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 (SRS 2016)</a:t>
            </a:r>
            <a:br>
              <a:rPr sz="2400"/>
            </a:b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Arial Narrow"/>
              </a:rPr>
              <a:t>a) Nerazdeljivi zadružni kapital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 je trajni poslovni sklad zadruge, ki je nastal: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- kot nedeljivo čisto premoženje v zadrugah do uskladitve njihove organiziranosti z Zakonom o zadrugah (Uradni list SFRJ, št. 3/1990) oziroma Zakonom o zadrugah (Uradni list RS, št. 13/1992),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- čisto premoženje, ki ga je zadruga pridobila na podlagi določb Zakona o zadrugah o udeležbi zadrug pri lastninskem preoblikovanju določenih podjetij (57.–64. člen ZZad) oziroma 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- o vračanju nekdanjega zadružnega premoženja (65.–68. člen ZZad), in 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- čisto premoženje, ki ga je zadruga pridobila na podlagi akta o razdružitvi premoženja nekdanjih gozdnogospodarskih organizacij (točka b) iz 83. člena Zakona o gozdovih.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8240" y="333000"/>
            <a:ext cx="777240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 Light"/>
              </a:rPr>
              <a:t>NERAZDELJIVI ZADRUŽNI KAPITAL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Slovenski računovodski standardi - </a:t>
            </a:r>
            <a:r>
              <a:rPr b="1" lang="sl-SI" sz="2400" spc="-1" strike="noStrike">
                <a:solidFill>
                  <a:srgbClr val="000000"/>
                </a:solidFill>
                <a:latin typeface="Arial Narrow"/>
              </a:rPr>
              <a:t>31.9.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 (SRS 2016))</a:t>
            </a:r>
            <a:br>
              <a:rPr sz="2400"/>
            </a:br>
            <a:br>
              <a:rPr sz="20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je nedeljivo čisto premoženje zadruge, za katero se smiselno uporabljajo predpisi o lastninski pravici. 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Namenjen je izključno za financiranje skupnega poslovanja zadruge in njenih članov. 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Sredstev iz tega sklada ni mogoče razdeliti niti ob morebitni likvidaciji zadruge ali njenem stečaju niti ob prenehanju zadruge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oljeZBesedilom 2"/>
          <p:cNvSpPr/>
          <p:nvPr/>
        </p:nvSpPr>
        <p:spPr>
          <a:xfrm>
            <a:off x="816120" y="1268280"/>
            <a:ext cx="480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 Narrow"/>
              </a:rPr>
              <a:t>Zakon o zadrugah 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(ZZad-UPB2, Ur. l. RS, št. 97/2009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Zadruga je organizacija vnaprej nedoločenega števila članov, ki ima namen pospešev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gospodarske koristi in razvijati gospodarske ali družbene dejav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svojih članov ter temelji na prostovoljnem pristopu, svobodnem izstop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enakopravnem sodelovanju in upravljanju članov.  Zadruga lahko vo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svoje dejavnosti tudi preko odvisne družbe.”(člen 1/1 ZZ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oljeZBesedilom 4"/>
          <p:cNvSpPr/>
          <p:nvPr/>
        </p:nvSpPr>
        <p:spPr>
          <a:xfrm>
            <a:off x="6383160" y="1305000"/>
            <a:ext cx="4800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 Narrow"/>
              </a:rPr>
              <a:t>Uredba št. 1435/2003/ES o statutu evropske zadruge 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(UL EU L 207/200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Število članov in osnovni kapital SCE se lahko spremenita.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Glavni cilj evropske zadruge je zadovoljevanje potreb njenih član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in/ali razvijanje njihovih gospodarskih in/ali družbenih dejavnos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zlasti s sklepanjem sporazumov z njimi za dobavo blaga ali stori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ali izvedbo takšnih del, ki jih SCE izvaja ali naroča. … SCE lahko svo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dejavnosti vodi prek hčerinske družbe” (člen 1 Uredbe 1435/2003/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oljeZBesedilom 3"/>
          <p:cNvSpPr/>
          <p:nvPr/>
        </p:nvSpPr>
        <p:spPr>
          <a:xfrm>
            <a:off x="911160" y="549360"/>
            <a:ext cx="102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UREDITEV UPRAVLJANJA IZHAJA IZ OPREDELITVE  ZADR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09680" y="193680"/>
            <a:ext cx="11455200" cy="55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 Narrow"/>
              </a:rPr>
              <a:t>EVROPSKA ZADRUGA: SOCIETAS COOPERATIVA EUROPAEA, S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Namen zadruge: zadovoljevati gospodarske potrebe članov in/ali pospeševati njihove gospodarske in socialne dejavnosti, zlasti s sklepanjem pogodb, lahko tudi po hčerinski družb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SCE lahko nasta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1) z ustanovitvijo na novo (najmanj 5 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fizičnih oseb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iz najmanj dveh različnih držav članic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2) z ustanovitvijo na novo (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najmanj 5 fizičnih in pravnih  oseb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iz najmanj dveh različnih držav članic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3) z ustanovitvijo na novo (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najmanj 2 družbi ali pravni osebi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iz različnih držav članic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4) z združitvijo zadrug iz najmanj dveh različnih držav članic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5) s preoblikovanjem zadruge, ustanovljene po pravu ene države članice, ki ima hčerinsko družbo ali podružnico v drugi državi članici, v S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39800" y="620640"/>
            <a:ext cx="11452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EVROPSKA ZADRUGA: SOCIETAS COOPERATIVA EUROPAEA, S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3. Minimalni znesek, pod katerega se z izplačili deležev ne sme znižati osnovni kapital, je 30.000 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4. Možnost enotirnega (občni zbor in upravni organ z neobveznimi izvršilnimi direktorji) ali dvotirnega sistema upravljanja (občni zbor, upravni odbor ali v manjših zadrugah predsednik in nadzorni orga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5. Možnost članov investitorjev (vlagateljev), če zadružno pravo po sedežu SCE to dopušč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6. Možnost prenosa sedeža iz ene  v drugo državo članico po posebnem postop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STATISTIKA: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Po neuradnih podatkih z dne 25. avgusta 2018 je bilo ustanovljenih samo  42 SCE (!) v  vseh 28 državah članicah.  Razlog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uredba o SCE preveč odkazuje na zadružno pravo države članice, kjer ima SCE sede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poleg tega so države članice za domače zadruge sprejele mnoge rešitve, kot veljajo za SCE, pogosto celo ugodne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oljeZBesedilom 1"/>
          <p:cNvSpPr/>
          <p:nvPr/>
        </p:nvSpPr>
        <p:spPr>
          <a:xfrm>
            <a:off x="860400" y="8064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Slika 18" descr=""/>
          <p:cNvPicPr/>
          <p:nvPr/>
        </p:nvPicPr>
        <p:blipFill>
          <a:blip r:embed="rId1"/>
          <a:stretch/>
        </p:blipFill>
        <p:spPr>
          <a:xfrm>
            <a:off x="1533600" y="1263600"/>
            <a:ext cx="7686720" cy="4967280"/>
          </a:xfrm>
          <a:prstGeom prst="rect">
            <a:avLst/>
          </a:prstGeom>
          <a:ln w="0">
            <a:noFill/>
          </a:ln>
        </p:spPr>
      </p:pic>
      <p:sp>
        <p:nvSpPr>
          <p:cNvPr id="79" name="PoljeZBesedilom 3"/>
          <p:cNvSpPr/>
          <p:nvPr/>
        </p:nvSpPr>
        <p:spPr>
          <a:xfrm>
            <a:off x="920520" y="430200"/>
            <a:ext cx="104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SHEMA OBVEZNIH, POGOJNO OBVEZNIH IN PROSTOVOLJNIH  ORGANOV V ZADRU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oljeZBesedilom 1"/>
          <p:cNvSpPr/>
          <p:nvPr/>
        </p:nvSpPr>
        <p:spPr>
          <a:xfrm>
            <a:off x="932040" y="573120"/>
            <a:ext cx="1047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PRENEHANJE ČLAN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V zadrugi lahko članstvo preneha zaradi naslednjih razlog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Iz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Izključi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Smrt fizične os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Prenehanje pravne os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Prenehanje zadr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oljeZBesedilom 2"/>
          <p:cNvSpPr/>
          <p:nvPr/>
        </p:nvSpPr>
        <p:spPr>
          <a:xfrm>
            <a:off x="574560" y="453960"/>
            <a:ext cx="1117296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 Narrow"/>
              </a:rPr>
              <a:t>POJEM ZADR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Mednarodna zadružna zveza (Izjava o zadružni istovetnosti,1995): „Zadruga je 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avtonomno  združenje oseb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, ki so se prostovoljno povezale za uresničevanje skupnih 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gospodarskih, socialnih in kulturnih potreb in hotenj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na podlagi 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skupnega in demokratično upravljanega podjetja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Zakon o zadrugah (1992/2009): „Zadruga je organizacija 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vnaprej nedoločenega števila članov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, ki ima 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namen pospeševati gospodarske koristi in razvijati gospodarske ali družbene dejavnosti svojih članov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ter temelji na 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prostovoljnem pristopu, svobodnem izstopu, enakopravnem sodelovanju in upravljanju članov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. Zadruga lahko vodi svoje dejavnosti tudi preko odvisne družbe.“ (1. čl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Uredba 1435/2003/ES  o evropski zadrugi (2003): „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Glavni cilj 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evropske zadruge je 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zadovoljevanje potreb njenih članov in/ali razvijanje njihovih gospodarskih in/ali družbenih dejavnosti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zlasti s sklepanjem sporazumov z njimi za dobavo blaga ali storitev ali izvedbo takšnih del, ki jih SCE izvaja ali naroča…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“ „Število članov in osnovni kapital SCE </a:t>
            </a:r>
            <a:r>
              <a:rPr b="0" i="1" lang="sl-SI" sz="2400" spc="-1" strike="noStrike">
                <a:solidFill>
                  <a:srgbClr val="000000"/>
                </a:solidFill>
                <a:latin typeface="Arial Narrow"/>
              </a:rPr>
              <a:t>sta spremenljiva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“ (1. čl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oljeZBesedilom 2"/>
          <p:cNvSpPr/>
          <p:nvPr/>
        </p:nvSpPr>
        <p:spPr>
          <a:xfrm>
            <a:off x="728640" y="641520"/>
            <a:ext cx="11172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POJEM ZADR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Ameriška ekonomska teorija (R. Dunn, 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Zadruga je  organizacija, katere uporabniki so hkra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vlagatelji (user-owner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upravljalci (user-control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prejemniki koristi od njenega delovanja (user-benefi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728640" y="5035680"/>
            <a:ext cx="108633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154160" y="5437080"/>
            <a:ext cx="1590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UPORABN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570120" y="5435640"/>
            <a:ext cx="1540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VLAGATEL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173280" y="5427720"/>
            <a:ext cx="1715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UPRAVLJAL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8742960" y="5424480"/>
            <a:ext cx="2532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JEMNIKI KORI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055320" y="54687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500080" y="54608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8183160" y="54608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oljeZBesedilom 2"/>
          <p:cNvSpPr/>
          <p:nvPr/>
        </p:nvSpPr>
        <p:spPr>
          <a:xfrm>
            <a:off x="216000" y="142920"/>
            <a:ext cx="11880720" cy="68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 Narrow"/>
              </a:rPr>
              <a:t>IZ IZJAVE O ZADRUŽNI ISTOVETNOSTI (MEDNARODNA ZADRUŽNA ZVEZA, 1995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 Narrow"/>
              </a:rPr>
              <a:t>Vrednote: </a:t>
            </a: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Zadruge temeljijo na vrednotah samopomoči, demokratičnosti, samoodgovornosti, samouprave, enakosti, pravičnosti in solidar­nosti. Zadružni člani - v skladu z izročilom prvih ustanoviteljev - verjamejo v etične vrednote poštenosti, odprtosti, družbene odgovornosti in skrbi za dru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 Narrow"/>
              </a:rPr>
              <a:t>Načela: </a:t>
            </a: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Zadružna načela so smernice, s katerimi zadruge uresničujejo svoje vrednote v svoji dejavnos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 Narrow"/>
              </a:rPr>
              <a:t>načelo: Prostovoljno in odprto članstvo 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(ekonomska utemeljenost, možnost za hitro rast, ekonomsko in socialno vključevanje na podlagi samopomoči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 Narrow"/>
              </a:rPr>
              <a:t>2. načelo: Demokratično člansko upravljanje 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(enaka glasovalna pravica: član kot oseba ima prednost pred kapitalom,…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 Narrow"/>
              </a:rPr>
              <a:t>3. načelo: Gospodarska udeležba članov 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(zadruga zagotavlja osnovne ekonomske in socialne potrebe članov: nima špekulativnih namenov, dobiček se deli po sodelovanju, za kapital priznava največ omejeno nadomestilo, vsaj del rezerv naj bi bil nedeljivo premoženje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 Narrow"/>
              </a:rPr>
              <a:t>4. načelo: Avtonomija in neodvisnost 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(zadruge niso podaljšana roka države ipd.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 Narrow"/>
              </a:rPr>
              <a:t>5. načelo: Izobraževanje, usposabljanje in obveščanje 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(zadruga je šola gospodarske demokracije, predpostavlja pripravljenost članov, delavcev in poslovodstva za usposabljanje, vlagati je treba tudi v prepoznavnost zadrug v družbi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 Narrow"/>
              </a:rPr>
              <a:t>6. načelo: Sodelovanje med zadrugami 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(načelo samopomoči velja tudi za razmerja med zadrugami: zadruge druge in višjih stopenj, zadružne zveze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 Narrow"/>
              </a:rPr>
              <a:t>7. načelo: Skrb za skupnost </a:t>
            </a:r>
            <a:r>
              <a:rPr b="0" lang="sl-SI" sz="2000" spc="-1" strike="noStrike">
                <a:solidFill>
                  <a:srgbClr val="000000"/>
                </a:solidFill>
                <a:latin typeface="Arial Narrow"/>
              </a:rPr>
              <a:t>(zadruge se obnašajo družbeno odgovorne, ker so preko članstva povezane s svojim okoljem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oljeZBesedilom 2"/>
          <p:cNvSpPr/>
          <p:nvPr/>
        </p:nvSpPr>
        <p:spPr>
          <a:xfrm>
            <a:off x="735120" y="414360"/>
            <a:ext cx="11209320" cy="76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ZADRUGE V EKONOMSKI TEORIJI IN RAZVOJNIH POLITIK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Prevladujoče ekonomske teorije v zadnjih desetletjih so zanemarjale alternativne organizacijsko poslovne modele in se nekritično osredotočale na dva nosilca družbenoekonomskega razvoj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trg in državo (bipolarni mode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Prepoznavnost zadrug se je zmanjšala kljub poročilom, priporočilom in resolucijam, ki  jih je  o družbenoekonomskem pomenu zadrug sprejemala Organizacija združenih narodo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že od devetdesetih let 20. stoletja naprej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Pozitiven prispevek zadrug k trajnostnemu načinu gospodarjenj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ki upošteva gospodarske, socialne in okoljske vidik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je postal opaznejši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finančni in gospodarski krizi po letu 2007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Generalna skupščina OZN je leto 2012 razglasila z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Narrow"/>
              </a:rPr>
              <a:t>mednarodno  leto zadru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www.zadruzna-zveza.si/images/stories/iyc_logo_en.gif"/>
          <p:cNvPicPr/>
          <p:nvPr/>
        </p:nvPicPr>
        <p:blipFill>
          <a:blip r:embed="rId1"/>
          <a:stretch/>
        </p:blipFill>
        <p:spPr>
          <a:xfrm>
            <a:off x="7861320" y="3365640"/>
            <a:ext cx="33973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jeZBesedilom 2"/>
          <p:cNvSpPr/>
          <p:nvPr/>
        </p:nvSpPr>
        <p:spPr>
          <a:xfrm>
            <a:off x="952560" y="622440"/>
            <a:ext cx="51102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RAZŠIRJENOST ZADRUG:  V SV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Po podatkih Mednarodne zadružne zveze (izdaja 2018)  je na svetu okrog tri milijone zadrug, ki povezujejo 12% svetovnega prebivalstva (1 milijardo posameznikov) in zaposlujejo 280 milijonov ljudi, 10% svetovne populacije delavc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Po podatkih Zadružnega monitorja (izdaja 2018) je v letu 2016, za katero sta MZZ in inštitut Euricse zbrala podatke za 2.575 največjih zadrug na svetu,   300 največjih zadrug  doseglo prihodke v višini 2.100 milijard USD prihodk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monitor.coop/sites/default/files/basic-page-image/cover-monitor-site-1868563162.jpg"/>
          <p:cNvPicPr/>
          <p:nvPr/>
        </p:nvPicPr>
        <p:blipFill>
          <a:blip r:embed="rId1"/>
          <a:stretch/>
        </p:blipFill>
        <p:spPr>
          <a:xfrm>
            <a:off x="6062760" y="622440"/>
            <a:ext cx="5802120" cy="548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jeZBesedilom 2"/>
          <p:cNvSpPr/>
          <p:nvPr/>
        </p:nvSpPr>
        <p:spPr>
          <a:xfrm>
            <a:off x="952560" y="622440"/>
            <a:ext cx="10115640" cy="63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RAZŠIRJENOST ZADRUG:  V EV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Regionalna organizacija Zadruge Evrope (Cooperatives Europe, 2015) ocenjuje, da je v Evropi približno 160.000 zadrug z okrog 123 milijonov članov in 5,4 milijona zaposlenih delavce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6,2 milijona kmetov v Evropski uniji je članov okrog 22.000 kmetijskih zadrug, ki odkupijo in predelajo okrog 40% proizvodov celotnega kmetijstva, zaposlujejo približno 660.000 delavcev in dosegajo letne prihodke v višini 350 milijard EUR (vir: COGECA, 201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Home"/>
          <p:cNvPicPr/>
          <p:nvPr/>
        </p:nvPicPr>
        <p:blipFill>
          <a:blip r:embed="rId1"/>
          <a:stretch/>
        </p:blipFill>
        <p:spPr>
          <a:xfrm>
            <a:off x="5722920" y="622440"/>
            <a:ext cx="48578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oljeZBesedilom 1"/>
          <p:cNvSpPr/>
          <p:nvPr/>
        </p:nvSpPr>
        <p:spPr>
          <a:xfrm>
            <a:off x="714240" y="62546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 Narrow"/>
              </a:rPr>
              <a:t>Vir: AJPES, 2019</a:t>
            </a:r>
            <a:r>
              <a:rPr b="0" lang="sl-SI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Grafikon 5" descr=""/>
          <p:cNvPicPr/>
          <p:nvPr/>
        </p:nvPicPr>
        <p:blipFill>
          <a:blip r:embed="rId1"/>
          <a:stretch/>
        </p:blipFill>
        <p:spPr>
          <a:xfrm>
            <a:off x="615960" y="676440"/>
            <a:ext cx="106808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oljeZBesedilom 1"/>
          <p:cNvSpPr/>
          <p:nvPr/>
        </p:nvSpPr>
        <p:spPr>
          <a:xfrm>
            <a:off x="1003320" y="698400"/>
            <a:ext cx="10826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KMETIJSKE IN GOZDARSKE ZADR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povezujejo kmete kot dobavitelje in odjemalce zato,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zagotavljajo članom dostop do trga in izravnalno pogajalsko moč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dodajajo vrednost kmetijskim in gozdarskim proizvodom (zlasti s predelavo in trženjem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realizirajo prihranke zaradi obsega poslovanj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krepijo konkurenčni položaj primarne proizvodnje z inovacijo proizvodov in jamstvom kakovosti in varnos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 Narrow"/>
              </a:rPr>
              <a:t>podpirajo splošno koristne funkcije kmetijstva, zlasti na območjih z omejenimi dejavniki in v razmerah velike posestne razdrobljenosti (na primer Slovenij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5T04:01:22Z</dcterms:created>
  <dc:creator>Franci Avsec</dc:creator>
  <dc:description/>
  <dc:language>en-US</dc:language>
  <cp:lastModifiedBy>Jožica Vodopivec Rozman</cp:lastModifiedBy>
  <cp:lastPrinted>2020-01-08T11:22:20Z</cp:lastPrinted>
  <dcterms:modified xsi:type="dcterms:W3CDTF">2020-01-17T12:47:24Z</dcterms:modified>
  <cp:revision>136</cp:revision>
  <dc:subject/>
  <dc:title>PowerPointova predstavitev</dc:title>
</cp:coreProperties>
</file>